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6BB4-FE11-4E52-A7FA-3E34D309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0AB-6052-469C-B739-AFB787ED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2D53-62D6-49F0-8D96-23D5BFFA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7D2A-065F-4ECA-B75D-AB074EFF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3A4-EAF4-4FD7-94C6-F87A9576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230A-2E55-470A-82D1-6097302F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C97-EEBF-4841-B1DD-4167825C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285E-E2A0-4CA0-936E-2F6BC2BD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EA3-1F25-4E53-8336-8534FBB9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63AE-60B2-44AC-BCD6-FD4224F3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83A1-2404-48AB-A1BB-A872DF47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CCD-0086-48A0-A82D-D39969A1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7A6F-32ED-48C8-944D-72A2CB134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nguage of Algeb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A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can use mathematical shorthand to represent a word probl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in your homework, you found out that you had to take a number and multiply it by two and then add th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ould wr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720" y="4876920"/>
            <a:ext cx="232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n +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your group, choose a variable (letter like n) to represent “a number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n algebraic expression to describe the phr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two more than three times a number would b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n +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an algebraic expression fo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more than a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less than a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umber subtracted from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imes a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t of a number and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divided by a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more than double a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times a number, decreased by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m of a number and -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 Tw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READ algebraic expressions in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n + 8 could be rea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times a number plus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more than three times a 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um of 8 and three times a 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 into Wor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+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+ 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–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m +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– 9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 Thr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back to your answers in Activity 1 and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ist of words and phrases that appear to indicate either addition or subtraction.  Make another list of words and phrases that appear to indicate either multiplication or di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362 in your text boo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1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0:38:19Z</dcterms:created>
  <dc:creator>admin</dc:creator>
  <dc:description/>
  <dc:language>en-US</dc:language>
  <cp:lastModifiedBy>admin</cp:lastModifiedBy>
  <dcterms:modified xsi:type="dcterms:W3CDTF">2008-02-06T21:14:45Z</dcterms:modified>
  <cp:revision>3</cp:revision>
  <dc:subject/>
  <dc:title>The Language of Algebra </dc:title>
</cp:coreProperties>
</file>